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125-1D9A-4EED-9E8F-EDF9FB9D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460-89E7-455B-995A-DF59175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0A0-0BE5-476C-885A-5E1B5AC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7B9-03E1-46EA-99B5-D17E5D35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C027-E02C-41BE-A6BC-E19C8B10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D1CC-1362-4949-BC7B-645FAA3F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9907-78C6-48F6-881F-B3CFBDBA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E09D-613D-4382-BD49-8161DF3B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0836-F841-4C32-8082-E847022A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4C26-5EAA-464D-B9AF-C387D32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C2F1-E86E-4C78-8198-5118B16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A4A-5AD9-4B32-91EA-F51D93C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1E2A-23CE-4319-8308-28DEF2FF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6F6-8493-402D-BD2D-F5B6215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315F-41D3-4B2B-A9AD-41DFB4E4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C96E-1B94-42A5-B75B-43210A6F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8413-8E47-4785-AF85-058A4EC0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B8E-2616-4EA5-9E44-602A0AE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3C0-0717-4767-B0DD-152C81D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9D0-1760-4405-BDB3-5CA270A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779-1697-469E-8E27-1B879398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F80-0D96-4E1B-9B0C-47ECA11A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325-B849-47AA-B036-36C14D6F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536-967B-4904-BA0B-9EEB89A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BCE-1CD2-492B-B452-F712D6DF9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AE6-6874-4B34-BA1B-22C857EF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1090440" y="3038400"/>
            <a:ext cx="69631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795240" y="944640"/>
            <a:ext cx="7553520" cy="545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"/>
          <p:cNvPicPr/>
          <p:nvPr/>
        </p:nvPicPr>
        <p:blipFill>
          <a:blip r:embed="rId4"/>
          <a:stretch/>
        </p:blipFill>
        <p:spPr>
          <a:xfrm>
            <a:off x="176364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" descr=""/>
          <p:cNvPicPr/>
          <p:nvPr/>
        </p:nvPicPr>
        <p:blipFill>
          <a:blip r:embed="rId5"/>
          <a:stretch/>
        </p:blipFill>
        <p:spPr>
          <a:xfrm>
            <a:off x="1763640" y="5589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76320" y="1643040"/>
            <a:ext cx="8991360" cy="3571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77164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3"/>
          <a:stretch/>
        </p:blipFill>
        <p:spPr>
          <a:xfrm>
            <a:off x="730872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4"/>
          <a:stretch/>
        </p:blipFill>
        <p:spPr>
          <a:xfrm>
            <a:off x="2700360" y="4681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"/>
          <p:cNvPicPr/>
          <p:nvPr/>
        </p:nvPicPr>
        <p:blipFill>
          <a:blip r:embed="rId5"/>
          <a:stretch/>
        </p:blipFill>
        <p:spPr>
          <a:xfrm>
            <a:off x="7236000" y="472428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233280" y="1619280"/>
            <a:ext cx="8675640" cy="361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750600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4"/>
          <a:stretch/>
        </p:blipFill>
        <p:spPr>
          <a:xfrm>
            <a:off x="738036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5"/>
          <a:stretch/>
        </p:blipFill>
        <p:spPr>
          <a:xfrm>
            <a:off x="5724360" y="3962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6"/>
          <a:stretch/>
        </p:blipFill>
        <p:spPr>
          <a:xfrm>
            <a:off x="6443640" y="4854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7"/>
          <a:stretch/>
        </p:blipFill>
        <p:spPr>
          <a:xfrm>
            <a:off x="7667640" y="48402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AutoBVT</cp:lastModifiedBy>
  <dcterms:modified xsi:type="dcterms:W3CDTF">2018-06-15T11:12:5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45</vt:lpwstr>
  </property>
</Properties>
</file>